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845-746B-41DE-A4EB-862BA3C2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A2A-1AEB-4659-B2CC-3F4B6C4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9062F-0248-4CC0-AF23-1B1417B9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09854-6709-4CFA-B56F-E0413434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D346E-7F78-43B9-9B68-B94DE558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761E1-00FC-48D7-B3AD-8DC7465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96934-AE2D-4C6D-A9C5-EBED45E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B7FE6-B421-43E1-B820-CCDA45F1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C7FAE-9EAF-44CC-8880-12CCB448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017AF-1038-43B0-97AB-2CF2D2C3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4FA79-5078-4C67-8627-A26F49F4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92151-ECA8-491B-8463-629B96F2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A5F-E22E-463A-AB64-135CE65E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D864E-FF05-44E8-9BDA-1B0000E9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2E2A1-B66D-48C2-8FAA-5339EC84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1DCF8-618D-40E6-B2AF-A4DC501B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89079-A064-45F1-B895-09B00133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C3C68-F0A6-4E59-AB99-8B8AA844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CC7EB-B387-44A4-8853-2C60B7FB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713BD-C5FF-4525-A3F9-6847363E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C6FBF-8789-4E5B-8437-C2E2434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09517-0D0D-4DC1-9482-80913411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4509D-42FB-4AFF-9754-443C9EA0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C5D-2963-4F95-83EE-BE36C0E8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BA59D-DF58-4EF1-8ED1-90B3D4D1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0F2F2-EE9A-452B-9051-8C600727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1B3BE-A38F-4CA3-A1E7-8A54FAA6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677CD-FB15-4D57-87C0-23E2DFC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90990-4DF5-4929-A06A-8046F677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96562-DBED-415F-B96E-6A3F7033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FECB1-9D5D-48BB-B59C-4CD24CC1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9BDFA-958B-4CF1-B7A2-26D1A93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E7851-1D58-4F36-A0F1-E8CD74B0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750E5-740B-466E-91C3-44BFBF0D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727B-8437-4D4D-B1D2-3F0334F9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DBD22-F92A-44C6-A5BE-F0A7306B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1D03A-BCC1-42BE-AED0-E46DA23A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CFE06-8691-4265-BA04-0E87FBA9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3AE20-3FCA-4E2F-8439-39753C03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EB333-BFE9-47AA-9EC1-F7BC8CEC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4164B-15CA-4B0C-956B-52AE783B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2F20E-9E49-4D1C-9D78-B536B805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3EF18-5A12-4331-A690-21287335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192CB-DC02-4EA3-99A1-4935D2C9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BAB1E-8686-411D-BB76-7199C1A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8260-327F-47F1-88A0-215EB863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EF7B4-A357-45EF-8024-F57DD09B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FA264-474E-45BD-A28C-74093DC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416E2-5A20-4484-918E-AED06E77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96EC8-E5B9-49A8-9FF8-7139903C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F9890-A535-4B8B-B583-BF327300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6B33-A467-435C-AFFF-C68CB637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A4D2-8EA4-42DD-94B7-85331DDA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601A-887A-4928-90EC-92BBBD18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58C6-5ED5-435E-8E43-03437C7F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2151-E78D-4E47-AD2F-5FADCF97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11E-A5F1-4A4B-A4C8-5A6EE44D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C8A5-CE4F-437E-929E-22ED5D5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06F0-7610-4876-8B94-5BA4592B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A431-7BAA-436F-8D25-0CF8527D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C01E-6C0D-49B4-A5EA-CEE6FB1B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934A-00F2-4D90-9E33-E890C9E6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5ED0-1D36-4545-A04F-6E9CA2C8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EC57-5A69-48BB-A2D4-81317C30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8E91-9B45-47DB-A5EF-400FD170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55E6-4C52-479C-A707-8DD9E6D6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906A-78BD-4B8B-A119-664F8572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BD0-A92A-44A0-B0C4-569938D7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C1AD-B6B6-424D-B4A0-F00BF3C4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1CE7-53C2-4792-8AEE-5BB38814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A3E4-2D28-413B-9421-B6429454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0F9F-981B-4352-9ECD-9A80B722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D665-9596-401B-A950-41169C9E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1C0A-4348-4B73-88CB-657E443A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B747-BE3D-42A1-B5AD-D92E6E44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17E4-6FDD-4323-9CEB-AC32ED93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C02F-7824-4FC7-96AB-92C99037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F82AF-C48D-4EAA-ADAD-6162C579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2A0-B845-48B7-9241-A5BFC290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AC2A-CF35-4738-918E-15ADEBF5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DC60-A404-4EC0-8C29-F88DEC94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DE84-9AE5-4494-B011-ABD8C639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CA6D9-A930-49F8-A807-8C0D2FB2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0AED-6506-4F84-A7AB-C4558E5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AA7D-67BB-4473-B51D-0BC03851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B8821-329C-4E8F-BF3F-42E773F0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57B2-375A-45FA-942A-5CE96CBB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406C-1DE1-49CF-8D52-E84164D4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4482C-6147-469B-9FF1-803C2C1D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DF6-4E1A-4FCD-BBB3-9C3BDBC3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5D49F-B5F4-4210-B825-15D21755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2DBB2-78BA-4F32-AE81-4A0E5280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C306C-012E-43DC-8BC1-8D5D3270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55137-AC32-4351-A268-FF654F63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B50B2-16C0-4B6F-9443-BE2D9B83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2765-03EF-4278-AE82-E2B293CA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EE983-6014-4E50-9CDA-737DAB1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AA83C-5DB2-44C9-A0BA-C5A0ED4B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C7630-A50C-4F6F-A573-E2A8D2F0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7A320-7385-49A5-8A0E-D56A547C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FDD-1913-4DFE-A1E9-E10711DF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96432-F618-491F-9CA8-356DEA4B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91E63-60AD-4BFC-A0DC-0308C3BD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6EE78-695B-44C6-8506-3BDF8B90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13AD1-7C80-4980-98DC-EF9074DD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0D803-6471-4F8F-A45A-E083A659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46758-2B16-4919-A40B-02536D76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4B9F2-2718-4AE4-ABEA-0F996CDC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7FBA4-95AA-4AC8-A6F7-09B87E0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2C8A3-3AF0-42A9-BB0A-38868C40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256A8-DE5B-4EFC-8D36-2820D7AE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D33-D2E7-4DC0-8C6F-DFCFE9E1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68F8F-57CA-4E38-AE35-81172A01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BAA3-3A6C-42A0-BDE9-E191147D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0ABE-35B3-49B9-B8B3-B7976AF1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7090A-01AD-4C11-89DC-9BB18789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C10AD-72B4-49BD-A564-C3718F6F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0BE2B-6348-4C1D-9577-4C816931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95A15-A208-45C5-91E7-EECDE5BE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BB95F-66E1-4E04-A274-DEDD58E5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3A74-53F0-46D5-9CAD-B03ACD3E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C230E-5FF0-4509-91C6-B8B62247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E48-FA6F-419E-82CC-C8CCA090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E80EC-F6A2-40F7-9E69-74CD94A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08768-ADE6-4965-A3A1-7FFF20C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2D01E-8084-4264-9F27-177BE4EF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288CC-6B3B-4499-85B0-294827E3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8AEBA-35C0-4E31-A377-AF4F39A5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4B48C-4FE4-4ECB-8915-9D347B92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2C06D-05A1-4054-B96E-E7E1EF5B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2BD06-D8A9-423A-BFF8-C98B4573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1D3D3-EE11-444E-A4B3-EB55B786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03732-2D0E-43D5-AC82-2CAAA6D0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05E-C7F1-434F-BC7B-2C54B6C9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332F4-6EE4-4BBD-9ECF-000966D9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A802C-F11D-429C-A02F-C410B99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6C33B-29D4-4965-9214-953C3E58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B1B51-7ED7-4923-87C0-62229EA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12C35-6B90-40E0-A8DE-9B880DD1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B51EF-0C23-45F5-9133-37A2092D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FDBD-0333-45BA-B4C0-3CE46BB9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9A397-1333-4965-84DE-25B079FC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F2F9F-FCDB-4CB8-88EF-EE7EBEB3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FDE4A-CA59-4464-9836-94E3510C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65C5-CF70-405A-8689-0EE125C754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E3DC-52D0-4BBB-8BE9-46B50EDE30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0E0C-DA53-4892-9230-264F88BC40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62F6-99C3-4A63-B974-8694BD53D7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2978-4F82-46C1-A4C5-57461D987E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7A14-65A2-4A92-B927-6753DF7F7F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06DB-EF00-4156-B25B-3AD8FA6D45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1B46-D116-468C-8709-7ECAD63243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7B5E-AC69-4F47-8485-31FB722A07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EB19-B11D-4556-B0BB-5D518A7649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B3FF-622C-4742-94FC-C06748BBD2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257F-6B28-4430-A1CC-A96380786E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 Verný a stály s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ahý náš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otcovskou vernosť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nás sa star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búdzaj túžbu v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ou í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púšťaš hriechy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lúdilých hľad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ždy si žiada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raz pr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 si, Pan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u k nám stálu m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svojou cirkvou bdi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láňaš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z tvojej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, čo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ú vďačnosť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vlej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 a stály s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ahý náš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, často nevern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predsa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prijať úprimn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ďakov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o, že láskav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nás vždy db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 si, Pan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u k nám stálu m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svojou cirkvou bdi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láňaš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z tvojej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, čo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ú vďačnosť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vlej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divy v príro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tebe svedč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, česť vzdáva 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vorenstva hl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ôže láska b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tvoju väčš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j svit je vzácnejš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slnk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 si, Pan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u k nám stálu m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svojou cirkvou bdi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láňaš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z tvojej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, čo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ú vďačnosť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vlej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09:52:49Z</dcterms:modified>
  <cp:revision>30</cp:revision>
  <dc:subject/>
  <dc:title>Je veľký náš Pán, on slávy je Kráľ Nech do všetkých strán  spev vrúcnych znie chvál.</dc:title>
</cp:coreProperties>
</file>